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231-9434-44A2-A064-8AA6CC33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498-FA67-45C8-A121-8B150A1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16E-5C84-48C9-8612-70ED641D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F2F-69A1-42C2-A417-C6ED1DE7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55F-C302-413D-916B-A4F4C99A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EF3-4BAC-4120-A343-8F594C6D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658-47A9-4FAB-B1B8-91F80775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431-DF1D-4114-A13F-D7AB8ED6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DAC-D5B7-49F1-8844-2565AB49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055-7565-459B-A955-6BCA045A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89F-750C-4B2F-85FD-F17099C8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D8B-78CC-46FE-983D-ADF8D546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0E12-1A91-41D0-9218-8CD3C859A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8600" y="228600"/>
            <a:ext cx="64771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28600" y="8763120"/>
            <a:ext cx="64771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28600" y="304920"/>
            <a:ext cx="152280" cy="853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553080" y="304920"/>
            <a:ext cx="152640" cy="853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1790640" y="60948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pecial 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1138680" y="1981080"/>
            <a:ext cx="473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Your Ey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14400" y="495288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enclosed information is intended only for the student(s) selected to participate in the Special Mission Co-Curricular Activity tod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y unauthorized disclosure will result in revocation of your security clea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9:14:13Z</dcterms:created>
  <dc:creator>Calvin Chue</dc:creator>
  <dc:description/>
  <dc:language>en-US</dc:language>
  <cp:lastModifiedBy>Calvin Chue</cp:lastModifiedBy>
  <dcterms:modified xsi:type="dcterms:W3CDTF">2010-06-09T19:04:45Z</dcterms:modified>
  <cp:revision>3</cp:revision>
  <dc:subject/>
  <dc:title>Slide 1</dc:title>
</cp:coreProperties>
</file>